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972800" cy="8229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A2A3-B0A8-4B3B-9E5D-11F09E140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3680" y="731880"/>
            <a:ext cx="9327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3680" y="2378160"/>
            <a:ext cx="932796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3680" y="4956840"/>
            <a:ext cx="932796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330C-9208-4C82-8AA8-E104F91F4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3680" y="731880"/>
            <a:ext cx="9327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3680" y="2378160"/>
            <a:ext cx="455184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03400" y="2378160"/>
            <a:ext cx="455184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3680" y="4956840"/>
            <a:ext cx="455184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03400" y="4956840"/>
            <a:ext cx="455184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C7EE-2BDD-44E7-9667-CEF35EB5B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3680" y="731880"/>
            <a:ext cx="9327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3680" y="2378160"/>
            <a:ext cx="300348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77640" y="2378160"/>
            <a:ext cx="300348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31600" y="2378160"/>
            <a:ext cx="300348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3680" y="4956840"/>
            <a:ext cx="300348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77640" y="4956840"/>
            <a:ext cx="300348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31600" y="4956840"/>
            <a:ext cx="300348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4403-3867-46A7-8767-1BB01D32F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3680" y="731880"/>
            <a:ext cx="9327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3680" y="2378160"/>
            <a:ext cx="932796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FB69-1DBB-4209-B31D-0CF529D49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3680" y="731880"/>
            <a:ext cx="9327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3680" y="2378160"/>
            <a:ext cx="932796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4688-2BEC-43F2-88A4-79D74BB23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3680" y="731880"/>
            <a:ext cx="9327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3680" y="2378160"/>
            <a:ext cx="455184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03400" y="2378160"/>
            <a:ext cx="455184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2F77-FFCE-4F8F-A18C-A280DD936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3680" y="731880"/>
            <a:ext cx="9327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A51B-2ACD-470C-BEA5-CD7DB77C8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3680" y="731880"/>
            <a:ext cx="932796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C6AA-2B5D-486D-98F8-76D413F6B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3680" y="731880"/>
            <a:ext cx="9327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3680" y="2378160"/>
            <a:ext cx="455184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03400" y="2378160"/>
            <a:ext cx="455184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3680" y="4956840"/>
            <a:ext cx="455184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0FBE-8697-43D4-A191-C11A7383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3680" y="731880"/>
            <a:ext cx="9327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3680" y="2378160"/>
            <a:ext cx="455184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03400" y="2378160"/>
            <a:ext cx="455184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03400" y="4956840"/>
            <a:ext cx="455184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0F5C-6461-46A8-8F3A-630676FB9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3680" y="731880"/>
            <a:ext cx="9327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3680" y="2378160"/>
            <a:ext cx="455184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03400" y="2378160"/>
            <a:ext cx="455184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3680" y="4956840"/>
            <a:ext cx="9327960" cy="23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E25B-7122-4E64-A17E-17D095D6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23680" y="731880"/>
            <a:ext cx="9327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23680" y="2378160"/>
            <a:ext cx="932796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24040" y="7497720"/>
            <a:ext cx="2286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50840" y="7497720"/>
            <a:ext cx="34736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66000" y="7497720"/>
            <a:ext cx="2286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00187-24BB-42E1-8108-CED78CC440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3680" y="2743200"/>
            <a:ext cx="9327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Cash flow stat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46280" y="4664160"/>
            <a:ext cx="76802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The purpose of the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Limitations of the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Cash flow statement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23680" y="274320"/>
            <a:ext cx="93279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The Purpose of the Cash flow stat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23680" y="1645920"/>
            <a:ext cx="9327960" cy="62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The Generally Accepted Accounting Principles (GAAP) require a full set of financial statements, i.e. the income statement, the balance sheet and the cash flow statement.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The statement must show the previous year's figures for comparis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The purposes of the stateme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It reports the cash generation and cash absor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It provides information on the liquidity, solvency and financial adap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It is the starting point for projections of future cash fl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31520" y="274320"/>
            <a:ext cx="93265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Limitations of the Cash flow stat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23680" y="1828800"/>
            <a:ext cx="932796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It records purchase of fixed assets, but cannot tell whether it was necessary, or will be profi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The increase in inventories maybe due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poor inventory/production control,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nability to sell the finished product,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deliberate policy to build up inventories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In case of increased accounts receivable it will not tell whe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the customers are slow to pay,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the credit policy has been changed,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t represents the increase of 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It shows how new capital stock was raised, but not that it was really needed, or raised in the best wa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3680" y="731880"/>
            <a:ext cx="9327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Cash Flow from Oper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23680" y="2378160"/>
            <a:ext cx="932796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Two versions are allow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direct method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hows operating cash receipts and pay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indirect method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tarts with net income, which is then adjusted for non-cash items and for changes in the components of working capital (without cash and overdraf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Net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Add: annual deprec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decrease in current ass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increase in current li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Less: increase in current ass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decrease in current li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3680" y="731880"/>
            <a:ext cx="9327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Cash Flow Statement Solution 10.1 and 10.2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23680" y="2378160"/>
            <a:ext cx="932796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Net income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          6,8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Depreciation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        12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Increase in accounts receivable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           (3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Increase in inventory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 (6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Decrease in marketable securities         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Increase in prepayments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            (3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Decrease in accounts payable                 (1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Increase in accruals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   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Decrease in tax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  (5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Decrease in current portion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mortgage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hu-HU" sz="2800" spc="-1" strike="noStrike" u="sng">
                <a:solidFill>
                  <a:srgbClr val="000000"/>
                </a:solidFill>
                <a:uFillTx/>
                <a:latin typeface="Times New Roman"/>
              </a:rPr>
              <a:t>(1,1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Net cash from operations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17,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3680" y="731880"/>
            <a:ext cx="9327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Cash Flow Statement Solution 10.1 and 10.2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23680" y="2378160"/>
            <a:ext cx="932796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Purchase of furniture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(2,7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Net cash from investing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(2,7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Dividend paid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(3,2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Martgage repaid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hu-HU" sz="2800" spc="-1" strike="noStrike" u="sng">
                <a:solidFill>
                  <a:srgbClr val="000000"/>
                </a:solidFill>
                <a:uFillTx/>
                <a:latin typeface="Times New Roman"/>
              </a:rPr>
              <a:t>(10,4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Net cash from financing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       (13,6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Net change in cas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Operatins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17,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Investing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(2,7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Financing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hu-HU" sz="2800" spc="-1" strike="noStrike" u="sng">
                <a:solidFill>
                  <a:srgbClr val="000000"/>
                </a:solidFill>
                <a:uFillTx/>
                <a:latin typeface="Times New Roman"/>
              </a:rPr>
              <a:t>(13,600)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1,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Reconciliation to the balance she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0005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0006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In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Cash        4,100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5,200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1,100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8T15:18:15Z</dcterms:created>
  <dc:creator>István</dc:creator>
  <dc:description/>
  <dc:language>en-US</dc:language>
  <cp:lastModifiedBy>ME</cp:lastModifiedBy>
  <dcterms:modified xsi:type="dcterms:W3CDTF">2004-09-04T15:59:15Z</dcterms:modified>
  <cp:revision>14</cp:revision>
  <dc:subject/>
  <dc:title>Cash flow statement</dc:title>
</cp:coreProperties>
</file>